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585-0882-4EC5-B3B8-3CA453B3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F5D9-7254-465B-AD0B-18A4EEB8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8A6-A419-452B-A6DA-C803D237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DCC9-DB71-4A5F-A5AA-A46A9750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7AEC-15CE-4C2A-A363-7C3C35AB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7061-39BF-4B49-90D1-89629895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CE8-AAAB-438E-B5E2-24A5D01F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7E85-170E-41EF-823B-CF067361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C06B-28F3-45E0-BB8F-1649CAEC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7B40-53DD-48D2-96B6-447D8A40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E23-EB15-4E0B-A070-4D70215B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7DC-0B8B-4753-80DF-D48E3AC2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826-9719-4A24-8D36-52AE975E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38C0-3376-473F-A5FD-6D7DB64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C2F5-1EDA-46A0-9294-362EDA1B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E27-6AA3-4318-8D63-3FC922B3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853E-2237-48CD-A89E-2370D1EF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6A9-093B-48EB-AADC-4C6E1ED9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3CEF-C5E0-487B-9F1E-3FDE0F48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0CF-CF75-48DB-93A9-174CAEFA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8A9-EF1D-46AD-BFB4-6C86C104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804E-8253-4B05-BB4F-FB044D5C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36B-3C4F-44E9-BB3D-E85A2E2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447-4AE8-44FF-BADB-11375616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2187-742B-48AD-9F22-A8C806DE65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F0FB-F657-442A-A2BC-B68CB91928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slide" Target="slide11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12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" Target="slide1.xml"/><Relationship Id="rId4" Type="http://schemas.openxmlformats.org/officeDocument/2006/relationships/image" Target="../media/image18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" Target="slide18.xml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3.pn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0.xml"/><Relationship Id="rId3" Type="http://schemas.openxmlformats.org/officeDocument/2006/relationships/image" Target="../media/image3.png"/><Relationship Id="rId4" Type="http://schemas.openxmlformats.org/officeDocument/2006/relationships/slide" Target="slide18.xml"/><Relationship Id="rId5" Type="http://schemas.openxmlformats.org/officeDocument/2006/relationships/image" Target="../media/image4.png"/><Relationship Id="rId6" Type="http://schemas.openxmlformats.org/officeDocument/2006/relationships/slide" Target="slide1.xml"/><Relationship Id="rId7" Type="http://schemas.openxmlformats.org/officeDocument/2006/relationships/image" Target="../media/image18.png"/><Relationship Id="rId8" Type="http://schemas.openxmlformats.org/officeDocument/2006/relationships/slide" Target="slide1.xml"/><Relationship Id="rId9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" Target="slide19.xml"/><Relationship Id="rId4" Type="http://schemas.openxmlformats.org/officeDocument/2006/relationships/image" Target="../media/image4.png"/><Relationship Id="rId5" Type="http://schemas.openxmlformats.org/officeDocument/2006/relationships/slide" Target="slide1.xml"/><Relationship Id="rId6" Type="http://schemas.openxmlformats.org/officeDocument/2006/relationships/image" Target="../media/image18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21.xml"/><Relationship Id="rId8" Type="http://schemas.openxmlformats.org/officeDocument/2006/relationships/image" Target="../media/image4.png"/><Relationship Id="rId9" Type="http://schemas.openxmlformats.org/officeDocument/2006/relationships/slide" Target="slide2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image" Target="../media/image18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22.xml"/><Relationship Id="rId5" Type="http://schemas.openxmlformats.org/officeDocument/2006/relationships/image" Target="../media/image4.png"/><Relationship Id="rId6" Type="http://schemas.openxmlformats.org/officeDocument/2006/relationships/slide" Target="slide24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" Target="slide23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3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5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69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551640" cy="2963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8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en-US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68360" y="1197000"/>
          <a:ext cx="8421480" cy="4852800"/>
        </p:xfrm>
        <a:graphic>
          <a:graphicData uri="http://schemas.openxmlformats.org/drawingml/2006/table">
            <a:tbl>
              <a:tblPr/>
              <a:tblGrid>
                <a:gridCol w="2519280"/>
                <a:gridCol w="2301840"/>
                <a:gridCol w="360036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Информационна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Магнитные поля; 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HD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Удары при установке 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C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DVD-R/RW дис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Flash-памя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rId13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08" name="Gear"/>
            <p:cNvSpPr/>
            <p:nvPr/>
          </p:nvSpPr>
          <p:spPr>
            <a:xfrm>
              <a:off x="6572160" y="2349360"/>
              <a:ext cx="1897200" cy="1663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3035160"/>
              <a:ext cx="2268360" cy="198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82960" y="3768840"/>
              <a:ext cx="2521080" cy="22096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68360" y="1557360"/>
          <a:ext cx="8229600" cy="417204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6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Александр</cp:lastModifiedBy>
  <dcterms:modified xsi:type="dcterms:W3CDTF">2007-10-18T02:45:40Z</dcterms:modified>
  <cp:revision>6</cp:revision>
  <dc:subject/>
  <dc:title>Архитектура компьютера</dc:title>
</cp:coreProperties>
</file>